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41B-45FA-4E4D-8C2D-17007621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F17-9C09-4729-B2C3-AFE31D08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1D4-5139-4D66-81D1-D38127AF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7D5-601C-4019-99B3-69BDF143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80E-8C78-4816-B7FC-E69B0668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805-3D7B-41A8-90E3-CE7CC4C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1BD-5F9D-4BE9-BC50-F9506F2D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E88-775E-42D6-B99F-1FC7DEB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FE6-ED4E-4236-9020-6B99D730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C07-1395-46A0-9E57-044D630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A24-ABF4-4D71-91B2-3771FE5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5FD-95F0-4872-8451-619E315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AA5-CDAA-4D86-8E1B-5F9D8A0D5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google+docs+in+plain+english&amp;search_type=&amp;aq=-1&amp;oq=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2338560"/>
            <a:ext cx="6775200" cy="271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4520" y="4232160"/>
            <a:ext cx="1689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o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8480" y="4368960"/>
            <a:ext cx="10969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cc"/>
                </a:solidFill>
                <a:latin typeface="Tahoma"/>
              </a:rPr>
              <a:t>B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240" y="8380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over4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20315" t="16666" r="49219" b="76045"/>
          <a:stretch/>
        </p:blipFill>
        <p:spPr>
          <a:xfrm>
            <a:off x="2489040" y="5410080"/>
            <a:ext cx="4800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8380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676" t="20835" r="29949" b="55210"/>
          <a:stretch/>
        </p:blipFill>
        <p:spPr>
          <a:xfrm>
            <a:off x="1879560" y="2666880"/>
            <a:ext cx="5791320" cy="175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19791" r="45576" b="72919"/>
          <a:stretch/>
        </p:blipFill>
        <p:spPr>
          <a:xfrm>
            <a:off x="2158920" y="4826160"/>
            <a:ext cx="58165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240" y="6094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6560" y="1447920"/>
            <a:ext cx="687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gle For Educators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26 June 2008 &lt;http://www.google.com/educators/weeklyreader.html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learning &gt; &gt; Google Docs &gt; December 14, 2007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hLEARNING.com | Technology &amp; Learning - The Resource for Education Technology Lead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4 Dec. 2007. 26 June 2008 &lt;http://www.techlearning.com/showArticle.php?articleID=196604848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6560" y="35794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rimmelen, Jeff. " Google Docs’ Academic Potential and Importance at EduTechie.com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atus at EduTechi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2 Nov. 2006. 26 June 2008 &lt;http://www.edutechie.com/2006/11/google-docs-education/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57020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rimmelen, Jeff. " Google Docs’ Academic Potential and Importance at EduTechie.com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atus at EduTechi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2 Nov. 2006. 26 June 2008 &lt;http://www.edutechie.com/2006/11/google-docs-education/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4720" y="568260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Official Google Docs Blog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ficial Google Docs B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 Jan. 1001. 26 June 2008 &lt;http://googledocs.blogspot.co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147168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An Introduc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4280" y="3595680"/>
            <a:ext cx="899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y Lynn Zottn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keview Summer Technology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uly/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46040" y="3260880"/>
            <a:ext cx="9448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What is it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Docs in Edu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Getting Start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4.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6800" y="211788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Google Docs 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03240" y="3352680"/>
            <a:ext cx="6470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in Pla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240" y="11430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What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8960" y="23623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nternet bas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3429000"/>
            <a:ext cx="89694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s, spreadsheets and presen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0280" y="4068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up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9280" y="4114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89640" y="5486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98680" y="5486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llabo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Cool Fe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46040" y="2392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4/7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1360" y="3276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miliar softwar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3382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tomatic 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32240" y="47242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ains all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6040" y="44197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vidual contribution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37160" y="2438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712000">
            <a:off x="2870280" y="3325320"/>
            <a:ext cx="41148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It’s Fre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Docs in the Classro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6560" y="2575080"/>
            <a:ext cx="9296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an compose/create collabora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9040" y="3306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nline &amp; in Real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5800" y="4373640"/>
            <a:ext cx="66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learn writing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5135400"/>
            <a:ext cx="92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ncourages multiple revisions &amp; peer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Docs in the Classro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240" y="2895480"/>
            <a:ext cx="92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edom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uster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necessary but tediou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5880" y="4267080"/>
            <a:ext cx="85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inforce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1</a:t>
            </a:r>
            <a:r>
              <a:rPr b="1" lang="en-US" sz="3200" spc="-1" strike="noStrike" baseline="30000">
                <a:solidFill>
                  <a:srgbClr val="ffcc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digital lear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Getting Start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7190" t="26042" r="5467" b="29168"/>
          <a:stretch/>
        </p:blipFill>
        <p:spPr>
          <a:xfrm>
            <a:off x="5842080" y="2057400"/>
            <a:ext cx="340992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74640" y="2895480"/>
            <a:ext cx="3353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Google ac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keview</cp:lastModifiedBy>
  <dcterms:modified xsi:type="dcterms:W3CDTF">2008-07-21T20:24:13Z</dcterms:modified>
  <cp:revision>71</cp:revision>
  <dc:subject/>
  <dc:title>PowerPoint Presentation</dc:title>
</cp:coreProperties>
</file>